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340-427A-4933-84AC-83A4DFC1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4BD-D409-4978-B9D4-77AFD038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733-6B21-4E1A-80B8-4D7416C9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526-8B3C-4814-ADD2-C1208615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1E1D-6E8C-4470-B35E-1CB634C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8FBD-1FFB-420F-A748-37D1BA5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0571-46A6-41C9-AFC8-9ADD9ED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EE4-E24C-406A-B76A-8B1513C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C5F-EA72-4A1C-ADAC-D255D65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FF9D-D7BA-4903-9866-EC3FA937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58FE-2F20-4F3C-9F33-1C47748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C7B-C3AF-4D4E-9013-4E33CE80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D86B-8ABF-4025-BDAF-A07A2A3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8D2-D87F-4355-80A3-F4C682A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5CA1-01B4-4C2D-97AF-E0FAC800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E285-64C0-4ED0-9E69-4E8275B1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407-A6D9-46C9-9938-8C7907A3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F20-FF66-42BE-906B-16FBB31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7DE-F674-4A36-92CE-5C3B5453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CF5-B221-4958-985C-B09F0D8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07E-752E-4B35-81B6-9A845025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06F-FC03-4E5A-B4E3-49578A3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E9D-8963-4502-BF67-0142382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ECB-B9DB-4E23-B668-A1B3221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B894-938E-49FE-B9B0-ECAF1332883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B365-1C66-48C3-9F1C-8B9BB2F5A86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Comic Sans MS"/>
              </a:rPr>
              <a:t>How is Christmas celebrated around the world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MPj04237240000[1]"/>
          <p:cNvPicPr/>
          <p:nvPr/>
        </p:nvPicPr>
        <p:blipFill>
          <a:blip r:embed="rId1"/>
          <a:stretch/>
        </p:blipFill>
        <p:spPr>
          <a:xfrm>
            <a:off x="2843280" y="3645000"/>
            <a:ext cx="3039840" cy="243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Austral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n Australia, Santa's sleigh is pulled by eight white kangaroos.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hristmas dinner is eaten outdoors and is followed by a visit to the beach or a game of cricket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0524_D74"/>
          <p:cNvPicPr/>
          <p:nvPr/>
        </p:nvPicPr>
        <p:blipFill>
          <a:blip r:embed="rId1"/>
          <a:stretch/>
        </p:blipFill>
        <p:spPr>
          <a:xfrm>
            <a:off x="5796000" y="1484280"/>
            <a:ext cx="150660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hoice and experience when you tour"/>
          <p:cNvPicPr/>
          <p:nvPr/>
        </p:nvPicPr>
        <p:blipFill>
          <a:blip r:embed="rId2"/>
          <a:stretch/>
        </p:blipFill>
        <p:spPr>
          <a:xfrm>
            <a:off x="5364000" y="386568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Switzerland</a:t>
            </a:r>
            <a:r>
              <a:rPr b="0" lang="en-GB" sz="36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Switzerland, during the holiday season the Star Singers (Sternsingers) dressed as the Three Kings parade through the streets of cities and towns singing Christmas song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Santa visits in a special fairytale tram and gives the children a ride through the city, singing songs with them and sharing a basket full of swee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three_kings"/>
          <p:cNvPicPr/>
          <p:nvPr/>
        </p:nvPicPr>
        <p:blipFill>
          <a:blip r:embed="rId1"/>
          <a:stretch/>
        </p:blipFill>
        <p:spPr>
          <a:xfrm>
            <a:off x="5580000" y="1628640"/>
            <a:ext cx="238140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Basket of Sweets"/>
          <p:cNvPicPr/>
          <p:nvPr/>
        </p:nvPicPr>
        <p:blipFill>
          <a:blip r:embed="rId2"/>
          <a:stretch/>
        </p:blipFill>
        <p:spPr>
          <a:xfrm>
            <a:off x="5580000" y="4005360"/>
            <a:ext cx="2160720" cy="209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Mexic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Mexico, children sometimes leave their shoes out instead of stockings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On Christmas Eve there is a parade of singers carrying bells and candles on top of long poles. They wind through the streets until they get to the local church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FELIZ NAVIDAD Y PROSPERO AÑO NUE VO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red shoes - another angle"/>
          <p:cNvPicPr/>
          <p:nvPr/>
        </p:nvPicPr>
        <p:blipFill>
          <a:blip r:embed="rId1"/>
          <a:stretch/>
        </p:blipFill>
        <p:spPr>
          <a:xfrm>
            <a:off x="5292720" y="1628640"/>
            <a:ext cx="2879640" cy="184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tory"/>
          <p:cNvPicPr/>
          <p:nvPr/>
        </p:nvPicPr>
        <p:blipFill>
          <a:blip r:embed="rId2"/>
          <a:stretch/>
        </p:blipFill>
        <p:spPr>
          <a:xfrm>
            <a:off x="5364000" y="4005360"/>
            <a:ext cx="273528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Kenya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Kenya, the churches are decorated with balloons, ribbons, flowers and green plants as well as Christmas trees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Christmas dinner is often a barbecue with family members traveling from far away to be together again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greenplants1"/>
          <p:cNvPicPr/>
          <p:nvPr/>
        </p:nvPicPr>
        <p:blipFill>
          <a:blip r:embed="rId1"/>
          <a:stretch/>
        </p:blipFill>
        <p:spPr>
          <a:xfrm>
            <a:off x="5724360" y="1484280"/>
            <a:ext cx="1906920" cy="19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barbeque"/>
          <p:cNvPicPr/>
          <p:nvPr/>
        </p:nvPicPr>
        <p:blipFill>
          <a:blip r:embed="rId2"/>
          <a:stretch/>
        </p:blipFill>
        <p:spPr>
          <a:xfrm>
            <a:off x="6084720" y="378936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Norway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Norway, on Christmas Eve, a bowl of porridge, "nisse" is left in the barn for the gnome who protects the farm. 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hen the children first see their Christmas tree all decorated, with presents underneath, the family joins hands and circles the tree singing carols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Porridge, Ready to Eat"/>
          <p:cNvPicPr/>
          <p:nvPr/>
        </p:nvPicPr>
        <p:blipFill>
          <a:blip r:embed="rId1"/>
          <a:stretch/>
        </p:blipFill>
        <p:spPr>
          <a:xfrm>
            <a:off x="5508720" y="1773360"/>
            <a:ext cx="2592360" cy="194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song"/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11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ahoma"/>
              </a:rPr>
              <a:t>Germany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n Germany, children decorate their Christmas Lists with pictures and then leave them on the windowsill overnight, weighed down with a little sugar so they won't be missed by Father Christm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There is a flower in Germany called the Christmas Rose which blooms even in the snow and ic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Frohes Weihnachtsf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window"/>
          <p:cNvPicPr/>
          <p:nvPr/>
        </p:nvPicPr>
        <p:blipFill>
          <a:blip r:embed="rId1"/>
          <a:stretch/>
        </p:blipFill>
        <p:spPr>
          <a:xfrm>
            <a:off x="4716360" y="1052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&lt;FONT SIZE=-1&gt;6111217&lt;/FONT&gt;&lt;BR&gt;Christmas Rose &lt;I&gt;Helleborus niger&lt;/I&gt;"/>
          <p:cNvPicPr/>
          <p:nvPr/>
        </p:nvPicPr>
        <p:blipFill>
          <a:blip r:embed="rId2"/>
          <a:stretch/>
        </p:blipFill>
        <p:spPr>
          <a:xfrm>
            <a:off x="5364000" y="3716280"/>
            <a:ext cx="1762200" cy="234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So why do a lot of people around the world give presents at Christmas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ost people think it relates to the three wise men bringing gifts to baby Jesus when he was bor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ristians believe it is more important to give a gift than to receive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gift would you take to baby Jes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baby%20jesus%20&amp;%20bluebird"/>
          <p:cNvPicPr/>
          <p:nvPr/>
        </p:nvPicPr>
        <p:blipFill>
          <a:blip r:embed="rId1"/>
          <a:stretch/>
        </p:blipFill>
        <p:spPr>
          <a:xfrm>
            <a:off x="2843280" y="3860640"/>
            <a:ext cx="3168720" cy="22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Pj04236920000[1]"/>
          <p:cNvPicPr/>
          <p:nvPr/>
        </p:nvPicPr>
        <p:blipFill>
          <a:blip r:embed="rId2"/>
          <a:stretch/>
        </p:blipFill>
        <p:spPr>
          <a:xfrm>
            <a:off x="611280" y="4149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Pj03847450000[1]"/>
          <p:cNvPicPr/>
          <p:nvPr/>
        </p:nvPicPr>
        <p:blipFill>
          <a:blip r:embed="rId3"/>
          <a:stretch/>
        </p:blipFill>
        <p:spPr>
          <a:xfrm>
            <a:off x="7093080" y="4149720"/>
            <a:ext cx="1476360" cy="1463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9:46:37Z</dcterms:created>
  <dc:creator>Nikki Watson-Paul</dc:creator>
  <dc:description/>
  <dc:language>en-US</dc:language>
  <cp:lastModifiedBy>Jacki Kratz</cp:lastModifiedBy>
  <dcterms:modified xsi:type="dcterms:W3CDTF">2011-11-30T13:55:47Z</dcterms:modified>
  <cp:revision>4</cp:revision>
  <dc:subject/>
  <dc:title>How is Christmas celebrated around the world?</dc:title>
</cp:coreProperties>
</file>